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FE1-E48E-4178-942B-4C2D5BCF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473-F4FE-4332-94A1-D63C25B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8DD-2C6F-4A14-98F7-56E94388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455-930F-4471-9D0A-A1DFAE33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1AC-640E-43F1-A316-D2352D5A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3E8-141B-4FC2-BF4D-EBE8E3EF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E9A-38ED-4CBF-B792-6A28817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8B1-060F-402B-B8F6-8CC4FBB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F47-04B0-41AC-BA3C-F6F6092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2A2-7D12-43D5-8CBD-C82135C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094-38BB-47BC-A615-540D177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065-B6DB-4344-BA43-C9385118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3BAA-3C15-4F54-ABBB-688232356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附件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费使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情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79250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4038480"/>
          <a:ext cx="7696080" cy="18590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项目考核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指标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经费使用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简要描述项目经费使用情况（根据任务约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此处插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经费决算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1265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03:24:23Z</dcterms:created>
  <dc:creator/>
  <dc:description/>
  <dc:language>en-US</dc:language>
  <cp:lastModifiedBy>然</cp:lastModifiedBy>
  <dcterms:modified xsi:type="dcterms:W3CDTF">2018-03-15T01:10:35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KSORubyTemplateID">
    <vt:lpwstr>2</vt:lpwstr>
  </property>
  <property fmtid="{D5CDD505-2E9C-101B-9397-08002B2CF9AE}" pid="4" name="Version">
    <vt:r8>1</vt:r8>
  </property>
</Properties>
</file>