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829-95AC-46EB-9E7D-994ED7A5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402-0865-4770-8003-965EB4DE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54E-1D12-44BD-AADA-9CD369D0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633-0D17-469E-8FAD-458337F7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1F9-0F26-48D6-BF62-93F384BA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C43-C4F6-4296-A55D-AED3CD8C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1C4-4594-4F02-B2A9-9FB62B99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890-6183-416D-B877-E44D8BC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0D1-8805-48CC-82CB-07F9688F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46C-F0FF-48C9-9C32-2A9C2A06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B95-F152-45E6-8D1F-51D6F7C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703-5064-454A-A218-7F328BCA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C4AA-2DF4-4F75-BAE1-C1A53E9AEB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附件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经费使用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情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792504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4038480"/>
          <a:ext cx="7696080" cy="18590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项目考核指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指标完成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经费使用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简要描述项目经费使用情况（根据任务约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此处插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经费决算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1265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1T03:24:23Z</dcterms:created>
  <dc:creator/>
  <dc:description/>
  <dc:language>en-US</dc:language>
  <cp:lastModifiedBy>然</cp:lastModifiedBy>
  <dcterms:modified xsi:type="dcterms:W3CDTF">2018-03-15T01:10:35Z</dcterms:modified>
  <cp:revision>3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KSORubyTemplateID">
    <vt:lpwstr>2</vt:lpwstr>
  </property>
  <property fmtid="{D5CDD505-2E9C-101B-9397-08002B2CF9AE}" pid="4" name="Version">
    <vt:r8>1</vt:r8>
  </property>
</Properties>
</file>